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A99-8223-4E07-9C23-1B5D8A0C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120-C5C1-4887-8749-AFFEA77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615-7814-4272-93A3-B36F0675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331-1F30-44E1-B857-6E1B4564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71B-4EA6-441D-AE61-77F9913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C33-4B3A-42F0-8786-60F2D49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977-4B19-49F3-8751-4C2990C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F8E-E274-46E0-B610-97FBFBD0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A50-DB63-4EBF-8BBA-4B2126AE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9DC-FADB-402B-967F-2CD131C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475-BDFC-4023-B20B-9CC2DAD3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9FE-100F-439F-85C5-94E2DB5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130-0C6D-4455-982F-ED8F6463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66680" y="-609480"/>
            <a:ext cx="12953880" cy="883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2895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ized Experiment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lav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 rot="10800000">
            <a:off x="531720" y="-382680"/>
            <a:ext cx="823752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lection into one or another treatment or control grou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such a way that all individuals to be assigned have a known and equal probability of being assigned to any given group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ually produces groups that can be considered equal, there is no guarantee that groups will be equal on every relevant fac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chance, it is possible that the groups will be different in some important way, especially if the number of subjects in each group is below 30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0"/>
            <a:ext cx="70102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ified Random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assignment of subjects to one or more groups done in such a way as to ensure that each group will have certain characteristic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creases chances of equality on key factors and ensures equal numbers in subgro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quires relatively larger sample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7360" y="1522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 Variables to Experimental Desig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0666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6760" y="1066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247968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78920" y="1143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43864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440" y="5052960"/>
            <a:ext cx="181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ha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artic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7960" y="4976640"/>
            <a:ext cx="210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ng in a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4952880"/>
            <a:ext cx="2073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dency of subjects to exert outstanding efforts because of being conscious of being in an experi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67280" cy="409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torial design is an experimental comparison design in which treatments or other variables are analyzed as levels of one or mor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6:24:06Z</dcterms:created>
  <dc:creator>Dennis</dc:creator>
  <dc:description/>
  <dc:language>en-US</dc:language>
  <cp:lastModifiedBy>Dennis</cp:lastModifiedBy>
  <dcterms:modified xsi:type="dcterms:W3CDTF">2011-03-02T14:50:16Z</dcterms:modified>
  <cp:revision>6</cp:revision>
  <dc:subject/>
  <dc:title>Slide 1</dc:title>
</cp:coreProperties>
</file>